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type.wav" ContentType="audio/x-wav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ED5C2-DC27-4ECD-BD0D-7B547D111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844EA-D51A-414D-B7E4-65A03D2C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57A0B-6A7A-4CF1-897B-F340C9F4D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57FF4-2AA9-4E1C-94EB-20D2C9333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20F0-96AB-4C6D-814C-721F8C528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5F11-53D1-400B-81AD-D743540A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2DCD-E0EF-4601-BD47-FE44891C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837C-0F0B-47E2-A085-20610E2F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B89E-5996-4C50-976C-1AD7E14B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BAB3-3A5E-4857-8729-35B1EE6C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7DD8-5812-43B6-87BC-1A144740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490B2-1F27-469E-BBE0-7C8024FA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C28A-FB82-4E5F-BF6A-A4D129D0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4059-36CF-4C9D-83F7-2D1622A9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8838-7D70-4FA0-BF2E-F502A66F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2E5E-5B95-44AA-AD25-6D4902F3D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DF5D-2D64-4D12-B301-04DFCEDAF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86091-29B7-49A2-90AB-D6AB45FB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88338-9425-4B5A-BB92-C3A5C1B4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88A4E-D999-4F5B-B760-21E5006B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DC301-8B31-44FC-BFDE-246CF37B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D4A53-8F0A-4F02-B168-54561EFA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C9C16-C4BD-4A2A-8AC5-F17480DD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CC460-8B24-4D7C-8BFD-B4699B40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BFC9-063D-454D-8E08-048CEDE7CE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0016-4E1F-42A5-AB53-311A40AD47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genere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genere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an example of a polyalphabetic cipher where the substitution pattern va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s, a plaintext “e” may be replaced by a ciphertext “p” one time and a ciphertext “w”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igenere cipher does this using a Vigener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722C4-9735-403F-9DA2-8D37E06773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genere Ciph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981160" cy="20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able lists the ke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s 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 and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intex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s 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419640" y="1409760"/>
            <a:ext cx="5505120" cy="5277240"/>
            <a:chOff x="3419640" y="1409760"/>
            <a:chExt cx="5505120" cy="5277240"/>
          </a:xfrm>
        </p:grpSpPr>
        <p:sp>
          <p:nvSpPr>
            <p:cNvPr id="117" name=""/>
            <p:cNvSpPr/>
            <p:nvPr/>
          </p:nvSpPr>
          <p:spPr>
            <a:xfrm>
              <a:off x="3419640" y="1409760"/>
              <a:ext cx="5505120" cy="518148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09720" y="1482480"/>
              <a:ext cx="5209920" cy="52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   </a:t>
              </a: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a b c d e f g h i j k l m n o p q r s t u v w x y 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a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a b c d e f g h i j k l m n o p q r s t u v w x y 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b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b c d e f g h i j k l m n o p q r s t u v w x y z 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c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c d e f g h i j k l m n o p q r s t u v w x y z a 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d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d e f g h i j k l m n o p q r s t u v w x y z a b 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e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e f g h i j k l m n o p q r s t u v w x y z a b c 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f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f g h i j k l m n o p q r s t u v w x y z a b c d 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g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g h i j k l m n o p q r s t u v w x y z a b c d e f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h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h i j k l m n o p q r s t u v w x y z a b c d e f 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i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i j k l m n o p q r s t u v w x y z a b c d e f g 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j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j k l m n o p q r s t u v w x y z a b c d e f g h i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k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k l m n o p q r s t u v w x y z a b c d e f g h i j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l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l m n o p q r s t u v w x y z a b c d e f g h i j k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m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m n o p q r s t u v w x y z a b c d e f g h i j k 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n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n o p q r s t u v w x y z a b c d e f g h i j k l m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o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o p q r s t u v w x y z a b c d e f g h i j k l m 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p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p q r s t u v w x y z a b c d e f g h i j k l m n 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q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q r s t u v w x y z a b c d e f g h i j k l m n o 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r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r s t u v w x y z a b c d e f g h i j k l m n o p q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s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s t u v w x y z a b c d e f g h i j k l m n o p q 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t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t u v w x y z a b c d e f g h i j k l m n o p q r 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u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u v w x y z a b c d e f g h i j k l m n o p q r s 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v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v w x y z a b c d e f g h i j k l m n o p q r s t 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w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w x y z a b c d e f g h i j k l m n o p q r s t u v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x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x y z a b c d e f g h i j k l m n o p q r s t u v w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y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y z a b c d e f g h i j k l m n o p q r s t u v w x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z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z a b c d e f g h i j k l m n o p q r s t u v w x 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D702E-888D-479B-B094-E536BB05FD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3520" y="1615680"/>
            <a:ext cx="534672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keyword is selected and it is repeatedly written above the plai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using the keyword “hold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047960" y="3406680"/>
            <a:ext cx="272160" cy="278280"/>
            <a:chOff x="1047960" y="3406680"/>
            <a:chExt cx="272160" cy="278280"/>
          </a:xfrm>
        </p:grpSpPr>
        <p:sp>
          <p:nvSpPr>
            <p:cNvPr id="122" name=""/>
            <p:cNvSpPr/>
            <p:nvPr/>
          </p:nvSpPr>
          <p:spPr>
            <a:xfrm>
              <a:off x="105228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4796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314720" y="3406680"/>
            <a:ext cx="272160" cy="278280"/>
            <a:chOff x="1314720" y="3406680"/>
            <a:chExt cx="272160" cy="278280"/>
          </a:xfrm>
        </p:grpSpPr>
        <p:sp>
          <p:nvSpPr>
            <p:cNvPr id="125" name=""/>
            <p:cNvSpPr/>
            <p:nvPr/>
          </p:nvSpPr>
          <p:spPr>
            <a:xfrm>
              <a:off x="131904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1472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581480" y="3406680"/>
            <a:ext cx="272160" cy="278280"/>
            <a:chOff x="1581480" y="3406680"/>
            <a:chExt cx="272160" cy="278280"/>
          </a:xfrm>
        </p:grpSpPr>
        <p:sp>
          <p:nvSpPr>
            <p:cNvPr id="128" name=""/>
            <p:cNvSpPr/>
            <p:nvPr/>
          </p:nvSpPr>
          <p:spPr>
            <a:xfrm>
              <a:off x="158580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8148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848240" y="3406680"/>
            <a:ext cx="272160" cy="278280"/>
            <a:chOff x="1848240" y="3406680"/>
            <a:chExt cx="272160" cy="278280"/>
          </a:xfrm>
        </p:grpSpPr>
        <p:sp>
          <p:nvSpPr>
            <p:cNvPr id="131" name=""/>
            <p:cNvSpPr/>
            <p:nvPr/>
          </p:nvSpPr>
          <p:spPr>
            <a:xfrm>
              <a:off x="185256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4824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105280" y="3406680"/>
            <a:ext cx="272160" cy="278280"/>
            <a:chOff x="2105280" y="3406680"/>
            <a:chExt cx="272160" cy="278280"/>
          </a:xfrm>
        </p:grpSpPr>
        <p:sp>
          <p:nvSpPr>
            <p:cNvPr id="134" name=""/>
            <p:cNvSpPr/>
            <p:nvPr/>
          </p:nvSpPr>
          <p:spPr>
            <a:xfrm>
              <a:off x="210960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0528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372040" y="3406680"/>
            <a:ext cx="272160" cy="278280"/>
            <a:chOff x="2372040" y="3406680"/>
            <a:chExt cx="272160" cy="278280"/>
          </a:xfrm>
        </p:grpSpPr>
        <p:sp>
          <p:nvSpPr>
            <p:cNvPr id="137" name=""/>
            <p:cNvSpPr/>
            <p:nvPr/>
          </p:nvSpPr>
          <p:spPr>
            <a:xfrm>
              <a:off x="237636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7204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638800" y="3406680"/>
            <a:ext cx="272160" cy="278280"/>
            <a:chOff x="2638800" y="3406680"/>
            <a:chExt cx="272160" cy="278280"/>
          </a:xfrm>
        </p:grpSpPr>
        <p:sp>
          <p:nvSpPr>
            <p:cNvPr id="140" name=""/>
            <p:cNvSpPr/>
            <p:nvPr/>
          </p:nvSpPr>
          <p:spPr>
            <a:xfrm>
              <a:off x="264312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3880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905560" y="3406680"/>
            <a:ext cx="272160" cy="278280"/>
            <a:chOff x="2905560" y="3406680"/>
            <a:chExt cx="272160" cy="278280"/>
          </a:xfrm>
        </p:grpSpPr>
        <p:sp>
          <p:nvSpPr>
            <p:cNvPr id="143" name=""/>
            <p:cNvSpPr/>
            <p:nvPr/>
          </p:nvSpPr>
          <p:spPr>
            <a:xfrm>
              <a:off x="2909880" y="34066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90556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172320" y="3406680"/>
            <a:ext cx="272160" cy="278280"/>
            <a:chOff x="3172320" y="3406680"/>
            <a:chExt cx="272160" cy="278280"/>
          </a:xfrm>
        </p:grpSpPr>
        <p:sp>
          <p:nvSpPr>
            <p:cNvPr id="146" name=""/>
            <p:cNvSpPr/>
            <p:nvPr/>
          </p:nvSpPr>
          <p:spPr>
            <a:xfrm>
              <a:off x="3176640" y="34066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7232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438720" y="3406680"/>
            <a:ext cx="272160" cy="278280"/>
            <a:chOff x="3438720" y="3406680"/>
            <a:chExt cx="272160" cy="278280"/>
          </a:xfrm>
        </p:grpSpPr>
        <p:sp>
          <p:nvSpPr>
            <p:cNvPr id="149" name=""/>
            <p:cNvSpPr/>
            <p:nvPr/>
          </p:nvSpPr>
          <p:spPr>
            <a:xfrm>
              <a:off x="344304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872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705480" y="3406680"/>
            <a:ext cx="272160" cy="278280"/>
            <a:chOff x="3705480" y="3406680"/>
            <a:chExt cx="272160" cy="278280"/>
          </a:xfrm>
        </p:grpSpPr>
        <p:sp>
          <p:nvSpPr>
            <p:cNvPr id="152" name=""/>
            <p:cNvSpPr/>
            <p:nvPr/>
          </p:nvSpPr>
          <p:spPr>
            <a:xfrm>
              <a:off x="370980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0548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972240" y="3406680"/>
            <a:ext cx="272160" cy="278280"/>
            <a:chOff x="3972240" y="3406680"/>
            <a:chExt cx="272160" cy="278280"/>
          </a:xfrm>
        </p:grpSpPr>
        <p:sp>
          <p:nvSpPr>
            <p:cNvPr id="155" name=""/>
            <p:cNvSpPr/>
            <p:nvPr/>
          </p:nvSpPr>
          <p:spPr>
            <a:xfrm>
              <a:off x="397656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7224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239000" y="3406680"/>
            <a:ext cx="272160" cy="278280"/>
            <a:chOff x="4239000" y="3406680"/>
            <a:chExt cx="272160" cy="278280"/>
          </a:xfrm>
        </p:grpSpPr>
        <p:sp>
          <p:nvSpPr>
            <p:cNvPr id="158" name=""/>
            <p:cNvSpPr/>
            <p:nvPr/>
          </p:nvSpPr>
          <p:spPr>
            <a:xfrm>
              <a:off x="424332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3900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505760" y="3406680"/>
            <a:ext cx="272160" cy="278280"/>
            <a:chOff x="4505760" y="3406680"/>
            <a:chExt cx="272160" cy="278280"/>
          </a:xfrm>
        </p:grpSpPr>
        <p:sp>
          <p:nvSpPr>
            <p:cNvPr id="161" name=""/>
            <p:cNvSpPr/>
            <p:nvPr/>
          </p:nvSpPr>
          <p:spPr>
            <a:xfrm>
              <a:off x="4510080" y="34066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0576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772520" y="3406680"/>
            <a:ext cx="272160" cy="278280"/>
            <a:chOff x="4772520" y="3406680"/>
            <a:chExt cx="272160" cy="278280"/>
          </a:xfrm>
        </p:grpSpPr>
        <p:sp>
          <p:nvSpPr>
            <p:cNvPr id="164" name=""/>
            <p:cNvSpPr/>
            <p:nvPr/>
          </p:nvSpPr>
          <p:spPr>
            <a:xfrm>
              <a:off x="4776840" y="34066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7252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038920" y="3406680"/>
            <a:ext cx="272160" cy="278280"/>
            <a:chOff x="5038920" y="3406680"/>
            <a:chExt cx="272160" cy="278280"/>
          </a:xfrm>
        </p:grpSpPr>
        <p:sp>
          <p:nvSpPr>
            <p:cNvPr id="167" name=""/>
            <p:cNvSpPr/>
            <p:nvPr/>
          </p:nvSpPr>
          <p:spPr>
            <a:xfrm>
              <a:off x="504324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3892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5305680" y="3406680"/>
            <a:ext cx="272160" cy="278280"/>
            <a:chOff x="5305680" y="3406680"/>
            <a:chExt cx="272160" cy="278280"/>
          </a:xfrm>
        </p:grpSpPr>
        <p:sp>
          <p:nvSpPr>
            <p:cNvPr id="170" name=""/>
            <p:cNvSpPr/>
            <p:nvPr/>
          </p:nvSpPr>
          <p:spPr>
            <a:xfrm>
              <a:off x="531000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0568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572440" y="3406680"/>
            <a:ext cx="272160" cy="278280"/>
            <a:chOff x="5572440" y="3406680"/>
            <a:chExt cx="272160" cy="278280"/>
          </a:xfrm>
        </p:grpSpPr>
        <p:sp>
          <p:nvSpPr>
            <p:cNvPr id="173" name=""/>
            <p:cNvSpPr/>
            <p:nvPr/>
          </p:nvSpPr>
          <p:spPr>
            <a:xfrm>
              <a:off x="557676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244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98440" y="338940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gik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-37440" y="3618000"/>
            <a:ext cx="5872320" cy="368280"/>
            <a:chOff x="-37440" y="3618000"/>
            <a:chExt cx="5872320" cy="368280"/>
          </a:xfrm>
        </p:grpSpPr>
        <p:sp>
          <p:nvSpPr>
            <p:cNvPr id="177" name=""/>
            <p:cNvSpPr/>
            <p:nvPr/>
          </p:nvSpPr>
          <p:spPr>
            <a:xfrm>
              <a:off x="-37440" y="361800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Magik"/>
                </a:rPr>
                <a:t>plain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1048320" y="3683160"/>
              <a:ext cx="4786560" cy="277560"/>
              <a:chOff x="1048320" y="3683160"/>
              <a:chExt cx="4786560" cy="27756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2076840" y="3683160"/>
                <a:ext cx="363600" cy="277560"/>
                <a:chOff x="2076840" y="3683160"/>
                <a:chExt cx="363600" cy="2775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90520" y="3683160"/>
                  <a:ext cx="276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076840" y="3684240"/>
                  <a:ext cx="363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I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2362320" y="3683160"/>
                <a:ext cx="272160" cy="277560"/>
                <a:chOff x="2362320" y="3683160"/>
                <a:chExt cx="272160" cy="2775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2375280" y="368316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362320" y="3684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629080" y="3683160"/>
                <a:ext cx="272160" cy="277560"/>
                <a:chOff x="2629080" y="3683160"/>
                <a:chExt cx="272160" cy="27756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642040" y="368316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629080" y="3684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2895840" y="3683160"/>
                <a:ext cx="272160" cy="277560"/>
                <a:chOff x="2895840" y="3683160"/>
                <a:chExt cx="272160" cy="27756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908800" y="368316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895840" y="3684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3162600" y="3683160"/>
                <a:ext cx="2672280" cy="277560"/>
                <a:chOff x="3162600" y="3683160"/>
                <a:chExt cx="2672280" cy="277560"/>
              </a:xfrm>
            </p:grpSpPr>
            <p:grpSp>
              <p:nvGrpSpPr>
                <p:cNvPr id="192" name=""/>
                <p:cNvGrpSpPr/>
                <p:nvPr/>
              </p:nvGrpSpPr>
              <p:grpSpPr>
                <a:xfrm>
                  <a:off x="3162600" y="3683160"/>
                  <a:ext cx="272160" cy="277560"/>
                  <a:chOff x="3162600" y="3683160"/>
                  <a:chExt cx="272160" cy="27756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>
                    <a:off x="317556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316260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3695760" y="3683160"/>
                  <a:ext cx="272160" cy="277560"/>
                  <a:chOff x="3695760" y="3683160"/>
                  <a:chExt cx="272160" cy="27756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370872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369576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L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3429360" y="3683160"/>
                  <a:ext cx="272160" cy="277560"/>
                  <a:chOff x="3429360" y="3683160"/>
                  <a:chExt cx="272160" cy="27756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>
                    <a:off x="3441960" y="368316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342936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P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4229280" y="3683160"/>
                  <a:ext cx="272160" cy="277560"/>
                  <a:chOff x="4229280" y="3683160"/>
                  <a:chExt cx="272160" cy="27756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>
                    <a:off x="424224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422928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3962520" y="3683160"/>
                  <a:ext cx="272160" cy="277560"/>
                  <a:chOff x="3962520" y="3683160"/>
                  <a:chExt cx="272160" cy="27756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>
                    <a:off x="397548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396252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4762800" y="3683160"/>
                  <a:ext cx="272160" cy="277560"/>
                  <a:chOff x="4762800" y="3683160"/>
                  <a:chExt cx="272160" cy="27756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477576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476280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4496040" y="3683160"/>
                  <a:ext cx="272160" cy="277560"/>
                  <a:chOff x="4496040" y="3683160"/>
                  <a:chExt cx="272160" cy="27756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450900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449604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5295960" y="3683160"/>
                  <a:ext cx="272160" cy="277560"/>
                  <a:chOff x="5295960" y="3683160"/>
                  <a:chExt cx="272160" cy="27756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530892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529596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X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5029560" y="3683160"/>
                  <a:ext cx="272160" cy="277560"/>
                  <a:chOff x="5029560" y="3683160"/>
                  <a:chExt cx="272160" cy="27756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>
                    <a:off x="5042160" y="368316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502956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"/>
                <p:cNvGrpSpPr/>
                <p:nvPr/>
              </p:nvGrpSpPr>
              <p:grpSpPr>
                <a:xfrm>
                  <a:off x="5562720" y="3683160"/>
                  <a:ext cx="272160" cy="277560"/>
                  <a:chOff x="5562720" y="3683160"/>
                  <a:chExt cx="272160" cy="27756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557568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556272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2" name=""/>
              <p:cNvGrpSpPr/>
              <p:nvPr/>
            </p:nvGrpSpPr>
            <p:grpSpPr>
              <a:xfrm>
                <a:off x="1819440" y="3683160"/>
                <a:ext cx="272160" cy="277560"/>
                <a:chOff x="1819440" y="3683160"/>
                <a:chExt cx="272160" cy="2775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832400" y="368316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819440" y="3684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048320" y="3683160"/>
                <a:ext cx="805320" cy="277560"/>
                <a:chOff x="1048320" y="3683160"/>
                <a:chExt cx="805320" cy="277560"/>
              </a:xfrm>
            </p:grpSpPr>
            <p:grpSp>
              <p:nvGrpSpPr>
                <p:cNvPr id="226" name=""/>
                <p:cNvGrpSpPr/>
                <p:nvPr/>
              </p:nvGrpSpPr>
              <p:grpSpPr>
                <a:xfrm>
                  <a:off x="1048320" y="3683160"/>
                  <a:ext cx="272160" cy="277560"/>
                  <a:chOff x="1048320" y="3683160"/>
                  <a:chExt cx="272160" cy="27756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1060920" y="368316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104832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1315080" y="3683160"/>
                  <a:ext cx="272160" cy="277560"/>
                  <a:chOff x="1315080" y="3683160"/>
                  <a:chExt cx="272160" cy="2775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>
                    <a:off x="1327680" y="368316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131508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H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1581480" y="3683160"/>
                  <a:ext cx="272160" cy="277560"/>
                  <a:chOff x="1581480" y="3683160"/>
                  <a:chExt cx="272160" cy="2775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159444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158148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35" name=""/>
          <p:cNvGrpSpPr/>
          <p:nvPr/>
        </p:nvGrpSpPr>
        <p:grpSpPr>
          <a:xfrm>
            <a:off x="6246720" y="2035080"/>
            <a:ext cx="2743200" cy="4172040"/>
            <a:chOff x="6246720" y="2035080"/>
            <a:chExt cx="2743200" cy="4172040"/>
          </a:xfrm>
        </p:grpSpPr>
        <p:sp>
          <p:nvSpPr>
            <p:cNvPr id="236" name=""/>
            <p:cNvSpPr/>
            <p:nvPr/>
          </p:nvSpPr>
          <p:spPr>
            <a:xfrm>
              <a:off x="6246720" y="2035080"/>
              <a:ext cx="2743200" cy="417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23400" y="2082600"/>
              <a:ext cx="2649600" cy="41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a b c d e f g h i 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a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a b c d e f g h 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b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b c d e f g h i j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n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c d e f g h i j k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d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d e f g h i j k l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e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e f g h i j k l m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f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f g h i j k l m n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g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g h i j k l m n o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h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h i j k l m n o p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i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i j k l m n o p q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j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j k l m n o p q r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k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k l m n o p q r s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l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l m n o p q r s t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m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m n o p q r s t u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n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n o p q r s t u v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o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o p q r s t u v w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p q r s t u v w x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q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q r s t u v w x y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r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r s t u v w x y z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s t u v w x y z a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t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t u v w x y z a b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u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u v w x y z a b c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057680" y="3949560"/>
            <a:ext cx="272160" cy="278280"/>
            <a:chOff x="1057680" y="3949560"/>
            <a:chExt cx="272160" cy="278280"/>
          </a:xfrm>
        </p:grpSpPr>
        <p:sp>
          <p:nvSpPr>
            <p:cNvPr id="239" name=""/>
            <p:cNvSpPr/>
            <p:nvPr/>
          </p:nvSpPr>
          <p:spPr>
            <a:xfrm>
              <a:off x="1062000" y="394956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057680" y="39513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-133560" y="388476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gik"/>
              </a:rPr>
              <a:t>cipher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70000" y="3121200"/>
            <a:ext cx="0" cy="266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923240" y="2073240"/>
            <a:ext cx="190440" cy="40863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13320" y="5788080"/>
            <a:ext cx="2571840" cy="18108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1360440" y="4111200"/>
            <a:ext cx="6600960" cy="17240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314720" y="3949560"/>
            <a:ext cx="272160" cy="278280"/>
            <a:chOff x="1314720" y="3949560"/>
            <a:chExt cx="272160" cy="278280"/>
          </a:xfrm>
        </p:grpSpPr>
        <p:sp>
          <p:nvSpPr>
            <p:cNvPr id="247" name=""/>
            <p:cNvSpPr/>
            <p:nvPr/>
          </p:nvSpPr>
          <p:spPr>
            <a:xfrm>
              <a:off x="1319040" y="394956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14720" y="39513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417680" y="3139920"/>
            <a:ext cx="0" cy="2667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03520" y="3121200"/>
            <a:ext cx="0" cy="266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89000" y="3121200"/>
            <a:ext cx="0" cy="266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590840" y="3949560"/>
            <a:ext cx="272160" cy="278280"/>
            <a:chOff x="1590840" y="3949560"/>
            <a:chExt cx="272160" cy="278280"/>
          </a:xfrm>
        </p:grpSpPr>
        <p:sp>
          <p:nvSpPr>
            <p:cNvPr id="253" name=""/>
            <p:cNvSpPr/>
            <p:nvPr/>
          </p:nvSpPr>
          <p:spPr>
            <a:xfrm>
              <a:off x="1595160" y="394956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90840" y="39513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7180200" y="2063880"/>
            <a:ext cx="190440" cy="409572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313320" y="5607000"/>
            <a:ext cx="2562480" cy="19044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2103120" y="4149720"/>
            <a:ext cx="5095800" cy="15336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848240" y="3949560"/>
            <a:ext cx="272160" cy="277920"/>
            <a:chOff x="1848240" y="3949560"/>
            <a:chExt cx="272160" cy="277920"/>
          </a:xfrm>
        </p:grpSpPr>
        <p:sp>
          <p:nvSpPr>
            <p:cNvPr id="259" name=""/>
            <p:cNvSpPr/>
            <p:nvPr/>
          </p:nvSpPr>
          <p:spPr>
            <a:xfrm>
              <a:off x="1852200" y="3949560"/>
              <a:ext cx="239040" cy="257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848240" y="3951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086560" y="3949560"/>
            <a:ext cx="3748680" cy="278280"/>
            <a:chOff x="2086560" y="3949560"/>
            <a:chExt cx="3748680" cy="278280"/>
          </a:xfrm>
        </p:grpSpPr>
        <p:grpSp>
          <p:nvGrpSpPr>
            <p:cNvPr id="262" name=""/>
            <p:cNvGrpSpPr/>
            <p:nvPr/>
          </p:nvGrpSpPr>
          <p:grpSpPr>
            <a:xfrm>
              <a:off x="5563080" y="3949560"/>
              <a:ext cx="272160" cy="278280"/>
              <a:chOff x="5563080" y="3949560"/>
              <a:chExt cx="272160" cy="278280"/>
            </a:xfrm>
          </p:grpSpPr>
          <p:sp>
            <p:nvSpPr>
              <p:cNvPr id="263" name=""/>
              <p:cNvSpPr/>
              <p:nvPr/>
            </p:nvSpPr>
            <p:spPr>
              <a:xfrm>
                <a:off x="556740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56308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2895840" y="3949560"/>
              <a:ext cx="272160" cy="278280"/>
              <a:chOff x="2895840" y="3949560"/>
              <a:chExt cx="272160" cy="278280"/>
            </a:xfrm>
          </p:grpSpPr>
          <p:sp>
            <p:nvSpPr>
              <p:cNvPr id="266" name=""/>
              <p:cNvSpPr/>
              <p:nvPr/>
            </p:nvSpPr>
            <p:spPr>
              <a:xfrm>
                <a:off x="290016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89584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2619720" y="3949560"/>
              <a:ext cx="272160" cy="278280"/>
              <a:chOff x="2619720" y="3949560"/>
              <a:chExt cx="272160" cy="278280"/>
            </a:xfrm>
          </p:grpSpPr>
          <p:sp>
            <p:nvSpPr>
              <p:cNvPr id="269" name=""/>
              <p:cNvSpPr/>
              <p:nvPr/>
            </p:nvSpPr>
            <p:spPr>
              <a:xfrm>
                <a:off x="262404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61972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2362680" y="3949560"/>
              <a:ext cx="272160" cy="278280"/>
              <a:chOff x="2362680" y="3949560"/>
              <a:chExt cx="272160" cy="278280"/>
            </a:xfrm>
          </p:grpSpPr>
          <p:sp>
            <p:nvSpPr>
              <p:cNvPr id="272" name=""/>
              <p:cNvSpPr/>
              <p:nvPr/>
            </p:nvSpPr>
            <p:spPr>
              <a:xfrm>
                <a:off x="236700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36268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086560" y="3949560"/>
              <a:ext cx="272160" cy="278280"/>
              <a:chOff x="2086560" y="3949560"/>
              <a:chExt cx="272160" cy="278280"/>
            </a:xfrm>
          </p:grpSpPr>
          <p:sp>
            <p:nvSpPr>
              <p:cNvPr id="275" name=""/>
              <p:cNvSpPr/>
              <p:nvPr/>
            </p:nvSpPr>
            <p:spPr>
              <a:xfrm>
                <a:off x="2090880" y="39495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08656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5029560" y="3949560"/>
              <a:ext cx="272160" cy="278280"/>
              <a:chOff x="5029560" y="3949560"/>
              <a:chExt cx="272160" cy="278280"/>
            </a:xfrm>
          </p:grpSpPr>
          <p:sp>
            <p:nvSpPr>
              <p:cNvPr id="278" name=""/>
              <p:cNvSpPr/>
              <p:nvPr/>
            </p:nvSpPr>
            <p:spPr>
              <a:xfrm>
                <a:off x="503388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02956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4753440" y="3949560"/>
              <a:ext cx="272160" cy="278280"/>
              <a:chOff x="4753440" y="3949560"/>
              <a:chExt cx="272160" cy="278280"/>
            </a:xfrm>
          </p:grpSpPr>
          <p:sp>
            <p:nvSpPr>
              <p:cNvPr id="281" name=""/>
              <p:cNvSpPr/>
              <p:nvPr/>
            </p:nvSpPr>
            <p:spPr>
              <a:xfrm>
                <a:off x="475776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5344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4486680" y="3949560"/>
              <a:ext cx="272160" cy="278280"/>
              <a:chOff x="4486680" y="3949560"/>
              <a:chExt cx="272160" cy="278280"/>
            </a:xfrm>
          </p:grpSpPr>
          <p:sp>
            <p:nvSpPr>
              <p:cNvPr id="284" name=""/>
              <p:cNvSpPr/>
              <p:nvPr/>
            </p:nvSpPr>
            <p:spPr>
              <a:xfrm>
                <a:off x="449100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48668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219920" y="3949560"/>
              <a:ext cx="272160" cy="278280"/>
              <a:chOff x="4219920" y="3949560"/>
              <a:chExt cx="272160" cy="278280"/>
            </a:xfrm>
          </p:grpSpPr>
          <p:sp>
            <p:nvSpPr>
              <p:cNvPr id="287" name=""/>
              <p:cNvSpPr/>
              <p:nvPr/>
            </p:nvSpPr>
            <p:spPr>
              <a:xfrm>
                <a:off x="422424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1992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962880" y="3949560"/>
              <a:ext cx="272160" cy="278280"/>
              <a:chOff x="3962880" y="3949560"/>
              <a:chExt cx="272160" cy="278280"/>
            </a:xfrm>
          </p:grpSpPr>
          <p:sp>
            <p:nvSpPr>
              <p:cNvPr id="290" name=""/>
              <p:cNvSpPr/>
              <p:nvPr/>
            </p:nvSpPr>
            <p:spPr>
              <a:xfrm>
                <a:off x="396720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96288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3686760" y="3949560"/>
              <a:ext cx="272160" cy="278280"/>
              <a:chOff x="3686760" y="3949560"/>
              <a:chExt cx="272160" cy="278280"/>
            </a:xfrm>
          </p:grpSpPr>
          <p:sp>
            <p:nvSpPr>
              <p:cNvPr id="293" name=""/>
              <p:cNvSpPr/>
              <p:nvPr/>
            </p:nvSpPr>
            <p:spPr>
              <a:xfrm>
                <a:off x="3691080" y="39495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68676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3429360" y="3949560"/>
              <a:ext cx="272160" cy="278280"/>
              <a:chOff x="3429360" y="3949560"/>
              <a:chExt cx="272160" cy="278280"/>
            </a:xfrm>
          </p:grpSpPr>
          <p:sp>
            <p:nvSpPr>
              <p:cNvPr id="296" name=""/>
              <p:cNvSpPr/>
              <p:nvPr/>
            </p:nvSpPr>
            <p:spPr>
              <a:xfrm>
                <a:off x="343368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42936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3162600" y="3949560"/>
              <a:ext cx="272160" cy="278280"/>
              <a:chOff x="3162600" y="3949560"/>
              <a:chExt cx="272160" cy="278280"/>
            </a:xfrm>
          </p:grpSpPr>
          <p:sp>
            <p:nvSpPr>
              <p:cNvPr id="299" name=""/>
              <p:cNvSpPr/>
              <p:nvPr/>
            </p:nvSpPr>
            <p:spPr>
              <a:xfrm>
                <a:off x="316692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16260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5296320" y="3949560"/>
              <a:ext cx="272160" cy="278280"/>
              <a:chOff x="5296320" y="3949560"/>
              <a:chExt cx="272160" cy="278280"/>
            </a:xfrm>
          </p:grpSpPr>
          <p:sp>
            <p:nvSpPr>
              <p:cNvPr id="302" name=""/>
              <p:cNvSpPr/>
              <p:nvPr/>
            </p:nvSpPr>
            <p:spPr>
              <a:xfrm>
                <a:off x="530064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29632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17D6A-F84B-405D-817A-8A5451705A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Vigenere from the Ciphers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540160" y="3411360"/>
            <a:ext cx="4387680" cy="2079720"/>
          </a:xfrm>
          <a:prstGeom prst="rect">
            <a:avLst/>
          </a:prstGeom>
          <a:ln w="0">
            <a:noFill/>
          </a:ln>
        </p:spPr>
      </p:pic>
      <p:grpSp>
        <p:nvGrpSpPr>
          <p:cNvPr id="307" name=""/>
          <p:cNvGrpSpPr/>
          <p:nvPr/>
        </p:nvGrpSpPr>
        <p:grpSpPr>
          <a:xfrm>
            <a:off x="4626000" y="4024440"/>
            <a:ext cx="1236600" cy="676080"/>
            <a:chOff x="4626000" y="4024440"/>
            <a:chExt cx="1236600" cy="676080"/>
          </a:xfrm>
        </p:grpSpPr>
        <p:sp>
          <p:nvSpPr>
            <p:cNvPr id="308" name=""/>
            <p:cNvSpPr/>
            <p:nvPr/>
          </p:nvSpPr>
          <p:spPr>
            <a:xfrm>
              <a:off x="4626000" y="4024440"/>
              <a:ext cx="1236600" cy="676080"/>
            </a:xfrm>
            <a:prstGeom prst="wedgeRoundRectCallout">
              <a:avLst>
                <a:gd name="adj1" fmla="val -43708"/>
                <a:gd name="adj2" fmla="val 65023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41200" y="4033800"/>
              <a:ext cx="102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ter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eyw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41736-0D87-43AF-8610-7A4B51CF86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11T02:20:57Z</dcterms:modified>
  <cp:revision>57</cp:revision>
  <dc:subject/>
  <dc:title>CAP Cryptographic Analysis Program</dc:title>
</cp:coreProperties>
</file>